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5.wmf" ContentType="image/x-wmf"/>
  <Override PartName="/ppt/media/image3.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80655-7B2A-4346-B1BB-BB892D9C1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20E3C-74AC-4D3C-95A3-DBF4B447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F29B4-3A38-4AC5-9410-0C52D3189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EBC68-9AF5-4A08-A0E2-605E8EF0D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54F5-C337-458B-97EE-72F3910BC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8112B-F9E6-4BF7-A721-F84308EAB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AB9E-379A-4E15-B9DB-ED7CC310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1A5F-8261-4560-96DA-88347694E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321A-1A18-4096-87F5-4AB4986BA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112A-72A2-4380-8048-92104051C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509A9-85F9-4613-9DB6-A767617E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EB93-89E4-44DB-B5EA-59D36EEE4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FB73-3298-44C9-91F5-AFD5D8227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gif"/><Relationship Id="rId6" Type="http://schemas.openxmlformats.org/officeDocument/2006/relationships/image" Target="../media/image3.wmf"/><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371600" y="1905120"/>
            <a:ext cx="6210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herlock Holmes: Selected Storie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4" name=""/>
          <p:cNvSpPr txBox="1"/>
          <p:nvPr/>
        </p:nvSpPr>
        <p:spPr>
          <a:xfrm>
            <a:off x="3657600" y="2895480"/>
            <a:ext cx="2448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By Sir Arthur Conan Doyle</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5" name="" descr=""/>
          <p:cNvPicPr/>
          <p:nvPr/>
        </p:nvPicPr>
        <p:blipFill>
          <a:blip r:embed="rId5"/>
          <a:stretch/>
        </p:blipFill>
        <p:spPr>
          <a:xfrm>
            <a:off x="762120" y="3581280"/>
            <a:ext cx="2057400" cy="1965600"/>
          </a:xfrm>
          <a:prstGeom prst="rect">
            <a:avLst/>
          </a:prstGeom>
          <a:ln w="0">
            <a:noFill/>
          </a:ln>
        </p:spPr>
      </p:pic>
      <p:pic>
        <p:nvPicPr>
          <p:cNvPr id="46" name="" descr=""/>
          <p:cNvPicPr/>
          <p:nvPr/>
        </p:nvPicPr>
        <p:blipFill>
          <a:blip r:embed="rId6"/>
          <a:stretch/>
        </p:blipFill>
        <p:spPr>
          <a:xfrm>
            <a:off x="4800600" y="3962520"/>
            <a:ext cx="2438280" cy="19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바탕"/>
              </a:rPr>
              <a:t>Why is this book on the outstanding books for the college bound list?</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바탕"/>
              </a:rPr>
              <a:t>Sherlock Holmes Selected Stories was placed on the college bound list because it is a book of suspense.</a:t>
            </a:r>
            <a:endParaRPr b="0" lang="en-US" sz="3200" spc="-1" strike="noStrike">
              <a:solidFill>
                <a:srgbClr val="000000"/>
              </a:solidFill>
              <a:latin typeface="Arial"/>
            </a:endParaRPr>
          </a:p>
          <a:p>
            <a:pPr marL="343080" indent="-343080">
              <a:lnSpc>
                <a:spcPct val="100000"/>
              </a:lnSpc>
              <a:spcBef>
                <a:spcPts val="799"/>
              </a:spcBef>
              <a:buClr>
                <a:srgbClr val="3333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바탕"/>
              </a:rPr>
              <a:t>When you read it, you will never become bored.  It is fun to guess what will happen next, or try to solve the case on your ow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andara"/>
              </a:rPr>
              <a:t>There are many short stories in this novel. Some ar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ff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andara"/>
              </a:rPr>
              <a:t>The Silver Blaze, where a famous horse named Silver Blaze has won many races and is a favorite to win the next upcoming race at King’s Pyland.</a:t>
            </a:r>
            <a:endParaRPr b="0" lang="en-US" sz="2400" spc="-1" strike="noStrike">
              <a:solidFill>
                <a:srgbClr val="000000"/>
              </a:solidFill>
              <a:latin typeface="Arial"/>
            </a:endParaRPr>
          </a:p>
          <a:p>
            <a:pPr marL="343080" indent="-343080">
              <a:lnSpc>
                <a:spcPct val="80000"/>
              </a:lnSpc>
              <a:spcBef>
                <a:spcPts val="601"/>
              </a:spcBef>
              <a:buClr>
                <a:srgbClr val="00ff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andara"/>
              </a:rPr>
              <a:t>Then, mysteriously, Silver Blaze goes missing, and the horses rider, Mr. Straker is found dead.</a:t>
            </a:r>
            <a:endParaRPr b="0" lang="en-US" sz="2400" spc="-1" strike="noStrike">
              <a:solidFill>
                <a:srgbClr val="000000"/>
              </a:solidFill>
              <a:latin typeface="Arial"/>
            </a:endParaRPr>
          </a:p>
          <a:p>
            <a:pPr marL="343080" indent="-343080">
              <a:lnSpc>
                <a:spcPct val="80000"/>
              </a:lnSpc>
              <a:spcBef>
                <a:spcPts val="601"/>
              </a:spcBef>
              <a:buClr>
                <a:srgbClr val="00ff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andara"/>
              </a:rPr>
              <a:t>Silas Brown, owner of the track at King’s Pyland, asks Sherlock Holmes for his help.  Sherlock Holmes, with his unusually keen eye observes that Mr. Straker must have been scared in the night when bringing Silver Blaze back to the stables.  Mr. Straker hears something and then takes out his knife.  Meanwhile his horse becomes frightened from a bright light and ends up kicking Mr. Straker, and Mr. Straker ends up falling on his own knife, tragically killing h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recommend this book because:</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keeps you on your toes, especially in the short story of The Sign of Fo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Sholto’s brother is found dead when he gets involved with a treasure that supposedly belongs to Ms. Cecil Forres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rlock Holmes chases down a man from the Andaman Islands named Jonathon Small, a former convict who persuaded the guards to let him free if he told them of the treas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rrested and convicted in theft, murder, and another attempted mu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in Charcter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Sherlock Holmes</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Watson</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Silas Brown</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Major Sholto </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Solomon Sholto</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Cecil Forrester</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Jonathon Small</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Mr. Strak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4191120" y="1905120"/>
            <a:ext cx="396216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ot:  Is it Importa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Impact"/>
              </a:rPr>
              <a:t>The way that Sir Arthur Conan Doyle wrote this novel is a very important factor in how this novel turned out so well.</a:t>
            </a:r>
            <a:endParaRPr b="0" lang="en-US" sz="2800" spc="-1" strike="noStrike">
              <a:solidFill>
                <a:srgbClr val="000000"/>
              </a:solidFill>
              <a:latin typeface="Arial"/>
            </a:endParaRPr>
          </a:p>
          <a:p>
            <a:pPr marL="343080" indent="-343080">
              <a:lnSpc>
                <a:spcPct val="100000"/>
              </a:lnSpc>
              <a:spcBef>
                <a:spcPts val="700"/>
              </a:spcBef>
              <a:buClr>
                <a:srgbClr val="00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Impact"/>
              </a:rPr>
              <a:t>In the Speckled band, it was crucial how Sir Doyle made the death of Helen Stoner’s sister and of her stepfather, Sir Roylott.  They were killed by a deadly speckled band snake, in which was controlled by Sir Roylott.  But ironically, the snake ended up killing Sir Roylo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and Setting: Where did Sherlock Holmes take plac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Lucida Console"/>
              </a:rPr>
              <a:t>Sherlock Holmes Selected Stories is a novel that takes place in 1886.</a:t>
            </a:r>
            <a:endParaRPr b="0" lang="en-US" sz="3200" spc="-1" strike="noStrike">
              <a:solidFill>
                <a:srgbClr val="000000"/>
              </a:solidFill>
              <a:latin typeface="Arial"/>
            </a:endParaRPr>
          </a:p>
          <a:p>
            <a:pPr marL="343080" indent="-343080">
              <a:lnSpc>
                <a:spcPct val="90000"/>
              </a:lnSpc>
              <a:spcBef>
                <a:spcPts val="799"/>
              </a:spcBef>
              <a:buClr>
                <a:srgbClr val="ff00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Lucida Console"/>
              </a:rPr>
              <a:t>Sherlock Holmes and his companion, Watson live in Dartmoor, England.</a:t>
            </a:r>
            <a:endParaRPr b="0" lang="en-US" sz="3200" spc="-1" strike="noStrike">
              <a:solidFill>
                <a:srgbClr val="000000"/>
              </a:solidFill>
              <a:latin typeface="Arial"/>
            </a:endParaRPr>
          </a:p>
          <a:p>
            <a:pPr marL="343080" indent="-343080">
              <a:lnSpc>
                <a:spcPct val="90000"/>
              </a:lnSpc>
              <a:spcBef>
                <a:spcPts val="799"/>
              </a:spcBef>
              <a:buClr>
                <a:srgbClr val="ff00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Lucida Console"/>
              </a:rPr>
              <a:t>Sherlock Holmes is not a certified detective, but people still seek his help any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ome other short stories in the novel?</a:t>
            </a:r>
            <a:endParaRPr b="0" lang="en-US" sz="4000" spc="-1" strike="noStrike">
              <a:solidFill>
                <a:srgbClr val="000000"/>
              </a:solidFill>
              <a:latin typeface="Arial"/>
            </a:endParaRPr>
          </a:p>
        </p:txBody>
      </p:sp>
      <p:sp>
        <p:nvSpPr>
          <p:cNvPr id="61"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Silver Blaz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Speckled Band</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Sign of Four</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A Scandal in Bohemia</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Naval Treaty</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Blue Carbuncl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Greek Interpreter</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Red-Headed Leagu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Empty Hous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Missing Three-Quarter</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His Last Bow</a:t>
            </a:r>
            <a:endParaRPr b="0" lang="en-US" sz="2400" spc="-1" strike="noStrike">
              <a:solidFill>
                <a:srgbClr val="000000"/>
              </a:solidFill>
              <a:latin typeface="Arial"/>
            </a:endParaRPr>
          </a:p>
        </p:txBody>
      </p:sp>
      <p:pic>
        <p:nvPicPr>
          <p:cNvPr id="62" name="" descr=""/>
          <p:cNvPicPr/>
          <p:nvPr/>
        </p:nvPicPr>
        <p:blipFill>
          <a:blip r:embed="rId1"/>
          <a:stretch/>
        </p:blipFill>
        <p:spPr>
          <a:xfrm>
            <a:off x="4724280" y="2133720"/>
            <a:ext cx="344484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Book is Outst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is book doesn’t just have one mystery, it has many.</a:t>
            </a:r>
            <a:endParaRPr b="0" lang="en-US" sz="2800" spc="-1" strike="noStrike">
              <a:solidFill>
                <a:srgbClr val="000000"/>
              </a:solidFill>
              <a:latin typeface="Arial"/>
            </a:endParaRPr>
          </a:p>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o if you like mysterious murder cases that seem impossible to solve, Sherlock Holmes Selected Stories is the book for yo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4938840" y="1905120"/>
            <a:ext cx="2970000" cy="33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5:28:50Z</dcterms:created>
  <dc:creator>NPieper</dc:creator>
  <dc:description/>
  <dc:language>en-US</dc:language>
  <cp:lastModifiedBy>NPieper</cp:lastModifiedBy>
  <dcterms:modified xsi:type="dcterms:W3CDTF">2007-11-07T21:17:15Z</dcterms:modified>
  <cp:revision>9</cp:revision>
  <dc:subject/>
  <dc:title>Slide 1</dc:title>
</cp:coreProperties>
</file>